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AB54-E7AE-4C2D-A8CD-C3073C19132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21C2-E45E-4D43-BA9D-5F049F8EE42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6D4-2F1E-4C53-92A3-9930FD8A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F84-9803-4AE0-A68E-16992A66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E561-7A4B-4E66-8475-6778B149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85B6-4197-4AC5-936B-047DC115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2EF-19E0-4B5E-BD48-62E87478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6EF6-53D0-4555-9ABB-E9D17A26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DBA-853F-44FD-934E-DF3AF28B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44D-0DCC-4FEC-B42A-6A6B7791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FA3-C728-4192-A40E-A674B973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A5C-9959-4999-8A04-B13B00C0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A3D-A6EE-4856-83BA-541006FC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E6BE-EA6D-4CA1-881C-AFE0E711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625E-F261-4A16-99F5-35A1CF7CD3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24.xml"/><Relationship Id="rId12" Type="http://schemas.openxmlformats.org/officeDocument/2006/relationships/slide" Target="slide25.xml"/><Relationship Id="rId13" Type="http://schemas.openxmlformats.org/officeDocument/2006/relationships/slide" Target="slide26.xml"/><Relationship Id="rId14" Type="http://schemas.openxmlformats.org/officeDocument/2006/relationships/slide" Target="slide27.xml"/><Relationship Id="rId15" Type="http://schemas.openxmlformats.org/officeDocument/2006/relationships/slide" Target="slide2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15.xml"/><Relationship Id="rId22" Type="http://schemas.openxmlformats.org/officeDocument/2006/relationships/slide" Target="slide14.xml"/><Relationship Id="rId23" Type="http://schemas.openxmlformats.org/officeDocument/2006/relationships/slide" Target="slide16.xml"/><Relationship Id="rId24" Type="http://schemas.openxmlformats.org/officeDocument/2006/relationships/slide" Target="slide17.xml"/><Relationship Id="rId25" Type="http://schemas.openxmlformats.org/officeDocument/2006/relationships/slide" Target="slide18.xml"/><Relationship Id="rId26" Type="http://schemas.openxmlformats.org/officeDocument/2006/relationships/slide" Target="slide13.xml"/><Relationship Id="rId27" Type="http://schemas.openxmlformats.org/officeDocument/2006/relationships/slide" Target="slide12.xml"/><Relationship Id="rId28" Type="http://schemas.openxmlformats.org/officeDocument/2006/relationships/slide" Target="slide11.xml"/><Relationship Id="rId29" Type="http://schemas.openxmlformats.org/officeDocument/2006/relationships/slide" Target="slide9.xml"/><Relationship Id="rId30" Type="http://schemas.openxmlformats.org/officeDocument/2006/relationships/slide" Target="slide10.xml"/><Relationship Id="rId31" Type="http://schemas.openxmlformats.org/officeDocument/2006/relationships/slide" Target="slide34.xml"/><Relationship Id="rId32" Type="http://schemas.openxmlformats.org/officeDocument/2006/relationships/slide" Target="slide33.xml"/><Relationship Id="rId3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071720" y="214200"/>
            <a:ext cx="71625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42"/>
                  </a:solidFill>
                  <a:miter/>
                </a:ln>
                <a:solidFill>
                  <a:srgbClr val="ff79ff"/>
                </a:solidFill>
                <a:latin typeface="Impact"/>
              </a:rPr>
              <a:t>Турнир знатоков</a:t>
            </a:r>
            <a:endParaRPr b="0" lang="en-US" sz="9600" spc="1" strike="noStrike">
              <a:ln w="9360">
                <a:solidFill>
                  <a:srgbClr val="000042"/>
                </a:solidFill>
                <a:miter/>
              </a:ln>
              <a:solidFill>
                <a:srgbClr val="ff79ff"/>
              </a:solidFill>
              <a:latin typeface="Impact"/>
              <a:ea typeface="Impact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826920" y="5229360"/>
            <a:ext cx="788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273a"/>
                </a:solidFill>
                <a:latin typeface="Times New Roman"/>
              </a:rPr>
              <a:t>Гребенкин А.Н.,  педагог- организато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273a"/>
                </a:solidFill>
                <a:latin typeface="Times New Roman"/>
              </a:rPr>
              <a:t>МАУ ДО «Центр детского творчеств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7273a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27273a"/>
                </a:solidFill>
                <a:latin typeface="Times New Roman"/>
              </a:rPr>
              <a:t>г. Серов Свердловская обла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57120" y="4357800"/>
            <a:ext cx="8501040" cy="642600"/>
          </a:xfrm>
          <a:prstGeom prst="rect">
            <a:avLst/>
          </a:prstGeom>
          <a:solidFill>
            <a:srgbClr val="3366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Bookman Old Style"/>
              </a:rPr>
              <a:t>Великая Отечественная вой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" name="Picture 8" descr="&amp;Mcy;&amp;acy;&amp;tcy;&amp;iecy;&amp;rcy;&amp;icy;&amp;acy;&amp;lcy;&amp;ycy; &amp;zcy;&amp;acy; &amp;Icy;&amp;yucy;&amp;lcy;&amp;softcy; 2013 &amp;gcy;&amp;ocy;&amp;dcy;&amp;acy; &quot; &amp;Scy;&amp;tcy;&amp;rcy;&amp;acy;&amp;ncy;&amp;icy;&amp;tscy;&amp;acy; 119 &quot; &amp;Dcy;&amp;Icy;&amp;Kcy;&amp;Icy;&amp;Jcy; &amp;Zcy;&amp;Vcy;&amp;IEcy;&amp;Rcy;&amp;SOFTcy; &amp;tcy;&amp;ocy;&amp;chcy;…"/>
          <p:cNvPicPr/>
          <p:nvPr/>
        </p:nvPicPr>
        <p:blipFill>
          <a:blip r:embed="rId1"/>
          <a:stretch/>
        </p:blipFill>
        <p:spPr>
          <a:xfrm>
            <a:off x="2316240" y="2000160"/>
            <a:ext cx="3684600" cy="23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9" descr="EXIF &amp;dcy;&amp;acy;&amp;ncy;&amp;ncy;&amp;ycy;&amp;iecy; &amp;fcy;&amp;ocy;&amp;tcy;&amp;ocy;&amp;gcy;&amp;rcy;&amp;acy;&amp;fcy;&amp;icy;&amp;icy;"/>
          <p:cNvPicPr/>
          <p:nvPr/>
        </p:nvPicPr>
        <p:blipFill>
          <a:blip r:embed="rId1"/>
          <a:stretch/>
        </p:blipFill>
        <p:spPr>
          <a:xfrm>
            <a:off x="500040" y="3000240"/>
            <a:ext cx="4762440" cy="31813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357120" y="357120"/>
            <a:ext cx="8532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За мужество и героизм, проявленные в годы Великой Отечественной войны, звание Героя было присвоено не только людям, но  и город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колько городов Советского Союза носили это звание? Назовите 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71680" y="4786200"/>
            <a:ext cx="214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</a:t>
            </a:r>
            <a:r>
              <a:rPr b="1" lang="ru-RU" sz="8000" spc="-1" strike="noStrike">
                <a:solidFill>
                  <a:srgbClr val="161616"/>
                </a:solidFill>
                <a:latin typeface="Times New Roman"/>
              </a:rPr>
              <a:t>13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5">
            <a:hlinkClick r:id="rId2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watermark_300x"/>
          <p:cNvPicPr/>
          <p:nvPr/>
        </p:nvPicPr>
        <p:blipFill>
          <a:blip r:embed="rId3"/>
          <a:stretch/>
        </p:blipFill>
        <p:spPr>
          <a:xfrm>
            <a:off x="7429680" y="4214880"/>
            <a:ext cx="1366560" cy="14605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2"/>
          <p:cNvSpPr/>
          <p:nvPr/>
        </p:nvSpPr>
        <p:spPr>
          <a:xfrm>
            <a:off x="5429160" y="33577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ahoma"/>
              </a:rPr>
              <a:t>Оде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Box 14"/>
          <p:cNvSpPr/>
          <p:nvPr/>
        </p:nvSpPr>
        <p:spPr>
          <a:xfrm>
            <a:off x="542916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евастопол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5500800" y="41432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лгог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5500800" y="457200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рестск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реп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5500800" y="50720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вороссийс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5500800" y="54291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ие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Box 19"/>
          <p:cNvSpPr/>
          <p:nvPr/>
        </p:nvSpPr>
        <p:spPr>
          <a:xfrm>
            <a:off x="5500800" y="58579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инс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Box 20"/>
          <p:cNvSpPr/>
          <p:nvPr/>
        </p:nvSpPr>
        <p:spPr>
          <a:xfrm>
            <a:off x="7429680" y="32860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ерч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Box 21"/>
          <p:cNvSpPr/>
          <p:nvPr/>
        </p:nvSpPr>
        <p:spPr>
          <a:xfrm>
            <a:off x="7000920" y="5715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урманс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Box 22"/>
          <p:cNvSpPr/>
          <p:nvPr/>
        </p:nvSpPr>
        <p:spPr>
          <a:xfrm>
            <a:off x="5500800" y="6286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моленс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Box 23"/>
          <p:cNvSpPr/>
          <p:nvPr/>
        </p:nvSpPr>
        <p:spPr>
          <a:xfrm>
            <a:off x="7643880" y="3714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у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Box 24"/>
          <p:cNvSpPr/>
          <p:nvPr/>
        </p:nvSpPr>
        <p:spPr>
          <a:xfrm>
            <a:off x="7358040" y="292896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оск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Box 25"/>
          <p:cNvSpPr/>
          <p:nvPr/>
        </p:nvSpPr>
        <p:spPr>
          <a:xfrm>
            <a:off x="5429160" y="29289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енинг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40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79280" y="500040"/>
            <a:ext cx="8785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6" descr="watermark_300x"/>
          <p:cNvPicPr/>
          <p:nvPr/>
        </p:nvPicPr>
        <p:blipFill>
          <a:blip r:embed="rId2"/>
          <a:stretch/>
        </p:blipFill>
        <p:spPr>
          <a:xfrm>
            <a:off x="6429240" y="5143680"/>
            <a:ext cx="1366920" cy="14601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5"/>
          <p:cNvSpPr/>
          <p:nvPr/>
        </p:nvSpPr>
        <p:spPr>
          <a:xfrm>
            <a:off x="214200" y="557208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66"/>
                </a:solidFill>
                <a:latin typeface="Times New Roman"/>
              </a:rPr>
              <a:t>Иван Иванович Федюнин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2786040" y="214200"/>
            <a:ext cx="614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Советский военачальник, генерал армии (1955)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Герой Советского Союза (1939)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Герой Монгольской Народной Республи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Его именем названа улица в поселке Тугулым Свердловской обла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3"/>
          <a:stretch/>
        </p:blipFill>
        <p:spPr>
          <a:xfrm>
            <a:off x="144360" y="144360"/>
            <a:ext cx="2571840" cy="377208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8"/>
          <p:cNvSpPr/>
          <p:nvPr/>
        </p:nvSpPr>
        <p:spPr>
          <a:xfrm>
            <a:off x="2786040" y="1714680"/>
            <a:ext cx="6143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Награждён: 4 орденами Ленина, 5 орденами Красного Знамени, 2 орденами Суворова 1-й ст., 2 орденами Кутузова 1-й ст., орденами Красной Звезды, «За службу Родине в Вооружённых Силах СССР» 3-й ст., медалями. Награждён иностранными орденам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ГДР — Золотой звездой президента и «За заслуги перед Отечеством» 1-й ст.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МНР — 2-мя Сухэ-Батора, 2-мя «За боевые заслуги» и Боевого Красного Знамен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ПНР — «Возрождения Польши», «Виртути Милитари» 4-й ст., Грюнвальдским крестом 2-й 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Box 13"/>
          <p:cNvSpPr/>
          <p:nvPr/>
        </p:nvSpPr>
        <p:spPr>
          <a:xfrm>
            <a:off x="214200" y="4786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зовите военачаль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1000080" y="485784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93366"/>
                </a:solidFill>
                <a:latin typeface="Tahoma"/>
              </a:rPr>
              <a:t>Нина Куковер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watermark_300x"/>
          <p:cNvPicPr/>
          <p:nvPr/>
        </p:nvPicPr>
        <p:blipFill>
          <a:blip r:embed="rId2"/>
          <a:stretch/>
        </p:blipFill>
        <p:spPr>
          <a:xfrm>
            <a:off x="6429240" y="492912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0"/>
          <p:cNvSpPr/>
          <p:nvPr/>
        </p:nvSpPr>
        <p:spPr>
          <a:xfrm>
            <a:off x="857160" y="3500280"/>
            <a:ext cx="614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Как звали юную разведчицу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3"/>
          <a:stretch/>
        </p:blipFill>
        <p:spPr>
          <a:xfrm>
            <a:off x="231840" y="500040"/>
            <a:ext cx="3840120" cy="278604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8"/>
          <p:cNvSpPr/>
          <p:nvPr/>
        </p:nvSpPr>
        <p:spPr>
          <a:xfrm>
            <a:off x="4357800" y="428760"/>
            <a:ext cx="442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Ленинградскую пионер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Великая Отечественная война застала в деревушке Нечепер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Как только в деревню вошел враг, она начала помогать партизана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Стала разведчиц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Много славных боевых дел совершила девочка, но однажды ушла в разведку и не вернулась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428760" y="4572000"/>
            <a:ext cx="602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Климент Ефремович Ворошилов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6" descr="watermark_300x"/>
          <p:cNvPicPr/>
          <p:nvPr/>
        </p:nvPicPr>
        <p:blipFill>
          <a:blip r:embed="rId2"/>
          <a:stretch/>
        </p:blipFill>
        <p:spPr>
          <a:xfrm>
            <a:off x="7643880" y="4643280"/>
            <a:ext cx="1071360" cy="1144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7"/>
          <p:cNvSpPr/>
          <p:nvPr/>
        </p:nvSpPr>
        <p:spPr>
          <a:xfrm>
            <a:off x="3357720" y="357120"/>
            <a:ext cx="547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В годы Великой Отечественной войны он являлся членом Государственного Комитета Обороны и Ставки Верховного Главнокомандован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в июле-августе 1941 г. — главнокомандующим войсками Северо-Западного стратегического направления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в сентябре – командующим войсками Ленинградского фронта.</a:t>
            </a:r>
            <a:r>
              <a:rPr b="1" lang="ru-RU" sz="1800" spc="-1" strike="noStrike">
                <a:solidFill>
                  <a:srgbClr val="1933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3366"/>
                </a:solidFill>
                <a:latin typeface="Times New Roman"/>
              </a:rPr>
              <a:t>Дважды Герой Советского Союза и Герой Социалистического Тру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3325680" y="3429000"/>
            <a:ext cx="5818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зовите  главнокомандующего и его награды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Прямоугольник 8"/>
          <p:cNvSpPr/>
          <p:nvPr/>
        </p:nvSpPr>
        <p:spPr>
          <a:xfrm>
            <a:off x="500040" y="5143680"/>
            <a:ext cx="678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3366"/>
                </a:solidFill>
                <a:latin typeface="Times New Roman"/>
              </a:rPr>
              <a:t>Награжден восемью орденами Ленин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3366"/>
                </a:solidFill>
                <a:latin typeface="Times New Roman"/>
              </a:rPr>
              <a:t>шестью орденами Красного Знамен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3366"/>
                </a:solidFill>
                <a:latin typeface="Times New Roman"/>
              </a:rPr>
              <a:t>орденом Суворова 1-й степен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3366"/>
                </a:solidFill>
                <a:latin typeface="Times New Roman"/>
              </a:rPr>
              <a:t>медалями СССР и медалями иностранных государст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3"/>
          <a:stretch/>
        </p:blipFill>
        <p:spPr>
          <a:xfrm>
            <a:off x="357120" y="285840"/>
            <a:ext cx="2832120" cy="39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428760" y="600084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66"/>
                </a:solidFill>
                <a:latin typeface="Tahoma"/>
                <a:ea typeface="Tahoma"/>
              </a:rPr>
              <a:t>Иван Степанович Кон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6" descr="watermark_300x"/>
          <p:cNvPicPr/>
          <p:nvPr/>
        </p:nvPicPr>
        <p:blipFill>
          <a:blip r:embed="rId2"/>
          <a:stretch/>
        </p:blipFill>
        <p:spPr>
          <a:xfrm>
            <a:off x="6572160" y="5072040"/>
            <a:ext cx="1366920" cy="1460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stomaster: &amp;Mcy;&amp;acy;&amp;rcy;&amp;shcy;&amp;acy;&amp;lcy; &amp;Kcy;&amp;ocy;&amp;ncy;&amp;iecy;&amp;vcy;"/>
          <p:cNvPicPr/>
          <p:nvPr/>
        </p:nvPicPr>
        <p:blipFill>
          <a:blip r:embed="rId3"/>
          <a:stretch/>
        </p:blipFill>
        <p:spPr>
          <a:xfrm>
            <a:off x="468360" y="404640"/>
            <a:ext cx="3292560" cy="44643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7"/>
          <p:cNvSpPr/>
          <p:nvPr/>
        </p:nvSpPr>
        <p:spPr>
          <a:xfrm>
            <a:off x="3995640" y="333360"/>
            <a:ext cx="489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«В военных кругах всегда пользовался репутацией твердого и решительного командующ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Многие из нас по-хорошему завидовали его энергии и активности. При любых обстоятельствах он стремился увидеть поле сражения собственными глазами и очень тщательно готовил каждую операцию. Стараясь вникать во все её детали, он буквально вгонял в пот своих подчиненных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( Генерал армии С.М.Штеменк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С мая 1944 и до конца войны командовал 1-м Украинским фронт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357120" y="5000760"/>
            <a:ext cx="52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зовите дважды Героя Советского Союз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1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50920" y="1197000"/>
            <a:ext cx="8893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6" descr="watermark_300x"/>
          <p:cNvPicPr/>
          <p:nvPr/>
        </p:nvPicPr>
        <p:blipFill>
          <a:blip r:embed="rId2"/>
          <a:stretch/>
        </p:blipFill>
        <p:spPr>
          <a:xfrm>
            <a:off x="7500960" y="4643280"/>
            <a:ext cx="1136520" cy="121464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857160" y="5786280"/>
            <a:ext cx="596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61616"/>
                </a:solidFill>
                <a:latin typeface="Times New Roman"/>
              </a:rPr>
              <a:t>Леонид Александрович Говоров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9" descr="&amp;Gcy;&amp;ocy;&amp;vcy;&amp;ocy;&amp;rcy;&amp;ocy;&amp;vcy; &amp;Lcy;&amp;iecy;&amp;ocy;&amp;ncy;&amp;icy;&amp;dcy; &amp;Acy;&amp;lcy;&amp;iecy;&amp;kcy;&amp;scy;&amp;acy;&amp;ncy;&amp;dcy;&amp;rcy;&amp;ocy;&amp;vcy;&amp;icy;&amp;chcy; - &amp;Mcy;&amp;acy;&amp;rcy;&amp;shcy;&amp;acy;&amp;lcy; &amp;Scy;&amp;ocy;&amp;vcy;&amp;iecy;&amp;tcy;&amp;scy;&amp;kcy;&amp;ocy;&amp;gcy;&amp;ocy; &amp;Scy;&amp;ocy;&amp;yucy;&amp;zcy;&amp;acy; &quot; MILDAY.RU - &amp;Scy;&amp;acy;&amp;jcy;&amp;tcy; &amp;ocy;&amp;bcy;&amp;ocy; &amp;vcy;&amp;scy;&amp;iocy;&amp;mcy; &amp;icy;&amp;ncy;&amp;tcy;&amp;iecy;&amp;rcy;&amp;iecy;&amp;scy;&amp;ncy;&amp;ocy;&amp;mcy; &amp;vcy; &amp;vcy;&amp;ocy;&amp;iecy;&amp;ncy;&amp;ncy;&amp;ocy;&amp;jcy; &amp;icy;&amp;scy;&amp;tcy;&amp;ocy;&amp;rcy;&amp;icy;&amp;icy;."/>
          <p:cNvPicPr/>
          <p:nvPr/>
        </p:nvPicPr>
        <p:blipFill>
          <a:blip r:embed="rId3"/>
          <a:stretch/>
        </p:blipFill>
        <p:spPr>
          <a:xfrm>
            <a:off x="250920" y="333360"/>
            <a:ext cx="3035160" cy="41608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0"/>
          <p:cNvSpPr/>
          <p:nvPr/>
        </p:nvSpPr>
        <p:spPr>
          <a:xfrm>
            <a:off x="3929040" y="374400"/>
            <a:ext cx="48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Генерал-лейтенан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«твёрдой воли, требовательный, энергичный, храбрый и организованный командующий войсками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(Из боевой характеристики, подписанной Г.К.Жуковым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С его именем связано снятие блокады Ленингра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Кавалер ордена «Побед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214200" y="4929120"/>
            <a:ext cx="678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зовите  Кавалера ордена «Победа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"/>
          <p:cNvSpPr/>
          <p:nvPr/>
        </p:nvSpPr>
        <p:spPr>
          <a:xfrm>
            <a:off x="142920" y="5500800"/>
            <a:ext cx="650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7273a"/>
                </a:solidFill>
                <a:latin typeface="Times New Roman"/>
                <a:ea typeface="Tahoma"/>
              </a:rPr>
              <a:t>Георгий Константинович Жуков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6" descr="watermark_300x"/>
          <p:cNvPicPr/>
          <p:nvPr/>
        </p:nvPicPr>
        <p:blipFill>
          <a:blip r:embed="rId2"/>
          <a:stretch/>
        </p:blipFill>
        <p:spPr>
          <a:xfrm>
            <a:off x="7358040" y="428616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6"/>
          <p:cNvSpPr/>
          <p:nvPr/>
        </p:nvSpPr>
        <p:spPr>
          <a:xfrm>
            <a:off x="4000680" y="1643040"/>
            <a:ext cx="485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Times New Roman"/>
              </a:rPr>
              <a:t>В честь его  в городах и сёлах России названы 190 проспектов, улиц, площаде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Times New Roman"/>
              </a:rPr>
              <a:t>и переулк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Times New Roman"/>
              </a:rPr>
              <a:t>В 1994 году в городе Ирбит Свердловской области ему открыт памятник в полный ро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Прямоугольник 8"/>
          <p:cNvSpPr/>
          <p:nvPr/>
        </p:nvSpPr>
        <p:spPr>
          <a:xfrm>
            <a:off x="4000680" y="285840"/>
            <a:ext cx="4786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Times New Roman"/>
              </a:rPr>
              <a:t>Совместно с Краснознаменным Балтийским флотом и при активной помощи трудящихся Ленинграда остановил врага, сорвав его попытки захватить город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Прямоугольник 10"/>
          <p:cNvSpPr/>
          <p:nvPr/>
        </p:nvSpPr>
        <p:spPr>
          <a:xfrm>
            <a:off x="400068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Times New Roman"/>
              </a:rPr>
              <a:t>Дважды удостоен высшего советского военного ордена «Побед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3"/>
          <a:stretch/>
        </p:blipFill>
        <p:spPr>
          <a:xfrm>
            <a:off x="571680" y="409680"/>
            <a:ext cx="3058920" cy="38764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8"/>
          <p:cNvSpPr/>
          <p:nvPr/>
        </p:nvSpPr>
        <p:spPr>
          <a:xfrm>
            <a:off x="357120" y="4714920"/>
            <a:ext cx="58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зовите  полковод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0" y="550080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Константин Константинович Рокоссовский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6" descr="watermark_300x"/>
          <p:cNvPicPr/>
          <p:nvPr/>
        </p:nvPicPr>
        <p:blipFill>
          <a:blip r:embed="rId2"/>
          <a:stretch/>
        </p:blipFill>
        <p:spPr>
          <a:xfrm>
            <a:off x="7286760" y="4500720"/>
            <a:ext cx="1366560" cy="1328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&amp;CHcy;&amp;iecy;&amp;lcy;&amp;ocy;&amp;vcy;&amp;iecy;&amp;kcy; &amp;scy; &amp;rcy;&amp;ucy;&amp;zhcy;&amp;softcy;&amp;iecy;&amp;mcy; :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3"/>
          <a:stretch/>
        </p:blipFill>
        <p:spPr>
          <a:xfrm>
            <a:off x="250920" y="333360"/>
            <a:ext cx="2990880" cy="40006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6"/>
          <p:cNvSpPr/>
          <p:nvPr/>
        </p:nvSpPr>
        <p:spPr>
          <a:xfrm>
            <a:off x="3492360" y="333360"/>
            <a:ext cx="5040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Сын железнодорожного машиниста, поляка по национальности, и русской учительницы. Участник Первой мировой войны, заслужил четыре Георгиевских крес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Сильный, волевой и одновременно сдержанный, он создавал вокруг себя атмосферу взаимоуважения. Он был одним из тех, кто неудержим в наступлении. Маршал СССР, дважды Герой Советского Союз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В 1945 г. ему выпала честь командовать Парадом Победы в Москве 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357120" y="4714920"/>
            <a:ext cx="58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зовите  Маршала ССС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0" y="5572080"/>
            <a:ext cx="642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Родион Яковлевич Малиновский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6" descr="watermark_300x"/>
          <p:cNvPicPr/>
          <p:nvPr/>
        </p:nvPicPr>
        <p:blipFill>
          <a:blip r:embed="rId2"/>
          <a:stretch/>
        </p:blipFill>
        <p:spPr>
          <a:xfrm>
            <a:off x="7286760" y="4429080"/>
            <a:ext cx="1366560" cy="1460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&amp;Ocy;&amp;dcy;&amp;iecy;&amp;scy;&amp;scy;&amp;acy; 360 - &amp;Vcy;&amp;icy;&amp;rcy;&amp;tcy;&amp;ucy;&amp;acy;&amp;lcy;&amp;softcy;&amp;ncy;&amp;ycy;&amp;jcy; &amp;tcy;&amp;ucy;&amp;rcy;, &amp;pcy;&amp;acy;&amp;ncy;&amp;ocy;&amp;rcy;&amp;acy;&amp;mcy;&amp;ncy;&amp;ycy;&amp;iecy; &amp;fcy;&amp;ocy;&amp;tcy;&amp;ocy;&amp;gcy;&amp;rcy;&amp;acy;&amp;fcy;&amp;icy;&amp;icy; Odessa 360 - Virtual tour, panoramic photography"/>
          <p:cNvPicPr/>
          <p:nvPr/>
        </p:nvPicPr>
        <p:blipFill>
          <a:blip r:embed="rId3"/>
          <a:stretch/>
        </p:blipFill>
        <p:spPr>
          <a:xfrm>
            <a:off x="395280" y="549360"/>
            <a:ext cx="2857680" cy="38289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3357720" y="620640"/>
            <a:ext cx="5607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Участник 1 мировой войны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гражданской войны в Росси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гражданской войны в Испан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Был единственным крупным советским военачальником Великой Отечественной, который свободно разговаривал на нескольких европейских языках. Особенно хорошо владел французским и испански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Увлекался игрой в шахма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Командовал 2-м Украинским фронт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 1957 – 67 гг. был министром обороны ССС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Кавалер ордена «Побед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357120" y="4714920"/>
            <a:ext cx="58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зовите  военачальника В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50920" y="1052640"/>
            <a:ext cx="85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5508720" y="393372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6" descr="watermark_300x"/>
          <p:cNvPicPr/>
          <p:nvPr/>
        </p:nvPicPr>
        <p:blipFill>
          <a:blip r:embed="rId2"/>
          <a:stretch/>
        </p:blipFill>
        <p:spPr>
          <a:xfrm>
            <a:off x="6875640" y="4581360"/>
            <a:ext cx="1368360" cy="14605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3429000" y="1071720"/>
            <a:ext cx="5357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зовите школьницу, котор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 начала блокады Ленингра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ела дневник в записной книжк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чти вся её семья погиб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 декабря 1941 года по май 1942 г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357120" y="5143680"/>
            <a:ext cx="385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</a:rPr>
              <a:t>Таня Савичев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3"/>
          <a:stretch/>
        </p:blipFill>
        <p:spPr>
          <a:xfrm>
            <a:off x="571680" y="714240"/>
            <a:ext cx="2609640" cy="37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2" dur="indefinite" restart="never" nodeType="tmRoot">
          <p:childTnLst>
            <p:seq>
              <p:cTn id="46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20760" y="1514520"/>
            <a:ext cx="8502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« Как слов не выбросить из песни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Пусть очень грустная она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вырезать из ленты жизн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Фрагмент с названием «Война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Л.Сени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24000" y="40464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ие имя и фамилия зашифров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названии советского танка «ИС»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6" descr="watermark_300x"/>
          <p:cNvPicPr/>
          <p:nvPr/>
        </p:nvPicPr>
        <p:blipFill>
          <a:blip r:embed="rId2"/>
          <a:stretch/>
        </p:blipFill>
        <p:spPr>
          <a:xfrm>
            <a:off x="6443640" y="494172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"/>
          <p:cNvSpPr/>
          <p:nvPr/>
        </p:nvSpPr>
        <p:spPr>
          <a:xfrm>
            <a:off x="2500200" y="5357880"/>
            <a:ext cx="371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Иосиф Сталин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9" descr="&quot;&amp;Ecy;&amp;ncy;&amp;tscy;&amp;icy;&amp;kcy;&amp;lcy;&amp;ocy;&amp;pcy;&amp;iecy;&amp;dcy;&amp;icy;&amp;yacy; &amp;icy;&amp;scy;&amp;tcy;&amp;ocy;&amp;rcy;&amp;icy;&amp;icy; &amp;Rcy;&amp;ocy;&amp;scy;&amp;scy;&amp;icy;&amp;icy;&quot;: &amp;tcy;&amp;iecy;&amp;mcy;&amp;ycy;"/>
          <p:cNvPicPr/>
          <p:nvPr/>
        </p:nvPicPr>
        <p:blipFill>
          <a:blip r:embed="rId3"/>
          <a:stretch/>
        </p:blipFill>
        <p:spPr>
          <a:xfrm>
            <a:off x="2411280" y="1773360"/>
            <a:ext cx="4077000" cy="28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79280" y="18900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зовите советский город, в честь которого названа площадь в Париже в памя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 великой победе над фашизмом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6" descr="watermark_300x"/>
          <p:cNvPicPr/>
          <p:nvPr/>
        </p:nvPicPr>
        <p:blipFill>
          <a:blip r:embed="rId2"/>
          <a:stretch/>
        </p:blipFill>
        <p:spPr>
          <a:xfrm>
            <a:off x="7451640" y="458136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1547640" y="5805360"/>
            <a:ext cx="56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193366"/>
                </a:solidFill>
                <a:latin typeface="Times New Roman"/>
                <a:ea typeface="Tahoma"/>
              </a:rPr>
              <a:t>Сталинград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Picture 9" descr="https://upload.wikimedia.org/wikipedia/commons/thumb/b/b3/Place_de_la_Bataille_de_Stalingrad_-_La_Rotonde.jpg/220px-Place_de_la_Bataille_de_Stalingrad_-_La_Rotonde.jpg"/>
          <p:cNvPicPr/>
          <p:nvPr/>
        </p:nvPicPr>
        <p:blipFill>
          <a:blip r:embed="rId3"/>
          <a:stretch/>
        </p:blipFill>
        <p:spPr>
          <a:xfrm>
            <a:off x="1895400" y="2071800"/>
            <a:ext cx="4788000" cy="35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684360" y="260280"/>
            <a:ext cx="77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Один из домов Волгограда носит фамилию сержан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6" descr="watermark_300x"/>
          <p:cNvPicPr/>
          <p:nvPr/>
        </p:nvPicPr>
        <p:blipFill>
          <a:blip r:embed="rId2"/>
          <a:stretch/>
        </p:blipFill>
        <p:spPr>
          <a:xfrm>
            <a:off x="7451640" y="450864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1714680" y="573264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66"/>
                </a:solidFill>
                <a:latin typeface="Times New Roman"/>
              </a:rPr>
              <a:t>Дом Павл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9" descr="&amp;Pcy;&amp;ucy;&amp;bcy;&amp;lcy;&amp;icy;&amp;kcy;&amp;acy;&amp;tscy;&amp;icy;&amp;icy; &amp;Dcy;&amp;mcy;&amp;icy;&amp;tcy;&amp;rcy;67 - &amp;Fcy;&amp;ocy;&amp;rcy;&amp;ucy;&amp;mcy; &amp;Scy;&amp;iecy;&amp;ncy;&amp;icy;&amp;tscy;&amp;acy;.&amp;rcy;&amp;ucy; - &amp;Scy;&amp;tcy;&amp;rcy;&amp;acy;&amp;ncy;&amp;icy;&amp;tscy;&amp;acy; 12"/>
          <p:cNvPicPr/>
          <p:nvPr/>
        </p:nvPicPr>
        <p:blipFill>
          <a:blip r:embed="rId3"/>
          <a:stretch/>
        </p:blipFill>
        <p:spPr>
          <a:xfrm>
            <a:off x="1835280" y="1844640"/>
            <a:ext cx="500508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260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ahoma"/>
              </a:rPr>
              <a:t>Горючая самовоспламеняющаяся смесь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ahoma"/>
              </a:rPr>
              <a:t>налитая в обыкновенную стеклянную бутылк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ahoma"/>
              </a:rPr>
              <a:t>носила имя наркома иностранных дел ССС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6" descr="watermark_300x"/>
          <p:cNvPicPr/>
          <p:nvPr/>
        </p:nvPicPr>
        <p:blipFill>
          <a:blip r:embed="rId1"/>
          <a:stretch/>
        </p:blipFill>
        <p:spPr>
          <a:xfrm>
            <a:off x="7236000" y="4508640"/>
            <a:ext cx="1366560" cy="14605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1571760" y="573264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  <a:ea typeface="Tahoma"/>
              </a:rPr>
              <a:t>Коктейль Молотов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Picture 9" descr="&quot;&amp;Pcy;&amp;ocy;&amp;gcy;&amp;rcy;&amp;iecy;&amp;bcy;&amp;ocy;&amp;kcy;&quot; &amp; Pixsar - &quot;&amp;Kcy;&amp;ocy;&amp;kcy;&amp;tcy;&amp;iecy;&amp;jcy;&amp;lcy;&amp;softcy; &amp;Mcy;&amp;ocy;&amp;lcy;&amp;ocy;&amp;tcy;&amp;ocy;&amp;vcy;&amp;acy;&quot; &amp;vcy;&amp;mcy;&amp;iecy;&amp;scy;&amp;tcy;&amp;ocy; &amp;vcy;&amp;ocy;&amp;dcy;&amp;kcy;&amp;icy;"/>
          <p:cNvPicPr/>
          <p:nvPr/>
        </p:nvPicPr>
        <p:blipFill>
          <a:blip r:embed="rId2"/>
          <a:stretch/>
        </p:blipFill>
        <p:spPr>
          <a:xfrm>
            <a:off x="2000160" y="1994040"/>
            <a:ext cx="4429080" cy="35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5" dur="indefinite" restart="never" nodeType="tmRoot">
          <p:childTnLst>
            <p:seq>
              <p:cTn id="506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Picture 6" descr="watermark_300x"/>
          <p:cNvPicPr/>
          <p:nvPr/>
        </p:nvPicPr>
        <p:blipFill>
          <a:blip r:embed="rId1"/>
          <a:stretch/>
        </p:blipFill>
        <p:spPr>
          <a:xfrm>
            <a:off x="6286680" y="4857840"/>
            <a:ext cx="1366560" cy="14605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3"/>
          <p:cNvSpPr/>
          <p:nvPr/>
        </p:nvSpPr>
        <p:spPr>
          <a:xfrm>
            <a:off x="1000080" y="5500800"/>
            <a:ext cx="48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Блокадный трамвай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Box 11"/>
          <p:cNvSpPr/>
          <p:nvPr/>
        </p:nvSpPr>
        <p:spPr>
          <a:xfrm>
            <a:off x="785880" y="4000680"/>
            <a:ext cx="6429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зовите символ жизни блокадного Ленинград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2"/>
          <a:stretch/>
        </p:blipFill>
        <p:spPr>
          <a:xfrm>
            <a:off x="357120" y="428760"/>
            <a:ext cx="4272120" cy="29289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7"/>
          <p:cNvSpPr/>
          <p:nvPr/>
        </p:nvSpPr>
        <p:spPr>
          <a:xfrm>
            <a:off x="4857840" y="428760"/>
            <a:ext cx="407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Он служил не только транспортным средством, но и перевозил грузы, почту, солдат, доставлял раненых в больницы, поэтому прекращение его движения сильно повлияло на моральный дух горожа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6" descr="watermark_300x"/>
          <p:cNvPicPr/>
          <p:nvPr/>
        </p:nvPicPr>
        <p:blipFill>
          <a:blip r:embed="rId1"/>
          <a:stretch/>
        </p:blipFill>
        <p:spPr>
          <a:xfrm>
            <a:off x="6500880" y="507204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642960" y="5643720"/>
            <a:ext cx="521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Мемориал «Цветок жизни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285840" y="4357800"/>
            <a:ext cx="741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зовите памятник - часть Зеленого пояса славы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3998880" cy="399888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7"/>
          <p:cNvSpPr/>
          <p:nvPr/>
        </p:nvSpPr>
        <p:spPr>
          <a:xfrm>
            <a:off x="4357800" y="357120"/>
            <a:ext cx="4500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Каменная ромашка высот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15 метров с 5-ю лепестк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«Пусть всегда будет солнце» 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эти четыре слова из извест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детской песни размещены на четырех лепестках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на пятом – улыбающееся юное лиц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Прямоугольник 8"/>
          <p:cNvSpPr/>
          <p:nvPr/>
        </p:nvSpPr>
        <p:spPr>
          <a:xfrm>
            <a:off x="4357800" y="2643120"/>
            <a:ext cx="44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Является частью Зеленого пояса Славы, который протянулся по бывшему рубежу обороны Ленингра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6" descr="watermark_300x"/>
          <p:cNvPicPr/>
          <p:nvPr/>
        </p:nvPicPr>
        <p:blipFill>
          <a:blip r:embed="rId1"/>
          <a:stretch/>
        </p:blipFill>
        <p:spPr>
          <a:xfrm>
            <a:off x="6500880" y="5143680"/>
            <a:ext cx="1366920" cy="14601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285840" y="4857840"/>
            <a:ext cx="5214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Блокадный храм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Церковь во имя Успения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Пресвятой Богородицы.</a:t>
            </a:r>
            <a:r>
              <a:rPr b="1" lang="ru-RU" sz="2400" spc="-1" strike="noStrike">
                <a:solidFill>
                  <a:srgbClr val="161616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714240" y="3929040"/>
            <a:ext cx="705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Как ещё называют эту церковь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2"/>
          <a:stretch/>
        </p:blipFill>
        <p:spPr>
          <a:xfrm>
            <a:off x="214200" y="28584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7"/>
          <p:cNvSpPr/>
          <p:nvPr/>
        </p:nvSpPr>
        <p:spPr>
          <a:xfrm>
            <a:off x="4643280" y="42876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Эта церковь — единственный религиозный памятник войне</a:t>
            </a:r>
            <a:r>
              <a:rPr b="0" lang="ru-RU" sz="2000" spc="-1" strike="noStrike">
                <a:solidFill>
                  <a:srgbClr val="161616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4643280" y="1285920"/>
            <a:ext cx="428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Рядом с ней в годы войны массово хоронили умерших от голода жителей гор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Прямоугольник 11"/>
          <p:cNvSpPr/>
          <p:nvPr/>
        </p:nvSpPr>
        <p:spPr>
          <a:xfrm>
            <a:off x="4643280" y="242892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Её называют храмом памяти Ленинградской блока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6" descr="watermark_300x"/>
          <p:cNvPicPr/>
          <p:nvPr/>
        </p:nvPicPr>
        <p:blipFill>
          <a:blip r:embed="rId1"/>
          <a:stretch/>
        </p:blipFill>
        <p:spPr>
          <a:xfrm>
            <a:off x="8001000" y="4929120"/>
            <a:ext cx="928800" cy="99216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9"/>
          <p:cNvSpPr/>
          <p:nvPr/>
        </p:nvSpPr>
        <p:spPr>
          <a:xfrm>
            <a:off x="163440" y="-1828800"/>
            <a:ext cx="3171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AutoShape 11"/>
          <p:cNvSpPr/>
          <p:nvPr/>
        </p:nvSpPr>
        <p:spPr>
          <a:xfrm>
            <a:off x="163440" y="-1828800"/>
            <a:ext cx="3171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13"/>
          <p:cNvSpPr/>
          <p:nvPr/>
        </p:nvSpPr>
        <p:spPr>
          <a:xfrm>
            <a:off x="163440" y="-1828800"/>
            <a:ext cx="3171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163440" y="-1828800"/>
            <a:ext cx="3171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395280" y="5565600"/>
            <a:ext cx="5748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Надпись на школе № 210 была восстановлена в 1962 году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2"/>
          <a:stretch/>
        </p:blipFill>
        <p:spPr>
          <a:xfrm>
            <a:off x="2000160" y="1428840"/>
            <a:ext cx="4572000" cy="29383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10"/>
          <p:cNvSpPr/>
          <p:nvPr/>
        </p:nvSpPr>
        <p:spPr>
          <a:xfrm>
            <a:off x="214200" y="214200"/>
            <a:ext cx="864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«Граждане! При артобстреле эта сторона улицы наиболее опасн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Такие предупреждения сохранились на 6 улицах гор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В годы блокады они спасли не одну жизнь горож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285840" y="4429080"/>
            <a:ext cx="741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В каком году восстановлена эта надпись  и где она установлена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3"/>
          <p:cNvSpPr/>
          <p:nvPr/>
        </p:nvSpPr>
        <p:spPr>
          <a:xfrm>
            <a:off x="214200" y="5143680"/>
            <a:ext cx="70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Памятник погибшим матерям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Адрес: г.Санкт- Петербург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ул. Почтамтская, 1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8423280" y="614376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Picture 6" descr="watermark_300x"/>
          <p:cNvPicPr/>
          <p:nvPr/>
        </p:nvPicPr>
        <p:blipFill>
          <a:blip r:embed="rId1"/>
          <a:stretch/>
        </p:blipFill>
        <p:spPr>
          <a:xfrm>
            <a:off x="7500960" y="442908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273" name="TextBox 6"/>
          <p:cNvSpPr/>
          <p:nvPr/>
        </p:nvSpPr>
        <p:spPr>
          <a:xfrm>
            <a:off x="428760" y="4000680"/>
            <a:ext cx="705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Как называется этот памятник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и где он установлен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Picture 7" descr=""/>
          <p:cNvPicPr/>
          <p:nvPr/>
        </p:nvPicPr>
        <p:blipFill>
          <a:blip r:embed="rId2"/>
          <a:stretch/>
        </p:blipFill>
        <p:spPr>
          <a:xfrm>
            <a:off x="1143000" y="285840"/>
            <a:ext cx="5775480" cy="37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4000680" y="1214280"/>
            <a:ext cx="464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Этот композитор в первые дни войны написал песню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под которую с Белорусского вокзала  уходили на фронт эшелоны с солдат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6" descr="watermark_300x"/>
          <p:cNvPicPr/>
          <p:nvPr/>
        </p:nvPicPr>
        <p:blipFill>
          <a:blip r:embed="rId1"/>
          <a:stretch/>
        </p:blipFill>
        <p:spPr>
          <a:xfrm>
            <a:off x="7500960" y="435780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500040" y="5572080"/>
            <a:ext cx="610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  <a:ea typeface="Tahoma"/>
              </a:rPr>
              <a:t>Александр Васильевич Александр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  <a:ea typeface="Tahoma"/>
              </a:rPr>
              <a:t>«Вставай, страна огромная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8" descr=""/>
          <p:cNvPicPr/>
          <p:nvPr/>
        </p:nvPicPr>
        <p:blipFill>
          <a:blip r:embed="rId2"/>
          <a:stretch/>
        </p:blipFill>
        <p:spPr>
          <a:xfrm>
            <a:off x="500040" y="357120"/>
            <a:ext cx="3079800" cy="38736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8"/>
          <p:cNvSpPr/>
          <p:nvPr/>
        </p:nvSpPr>
        <p:spPr>
          <a:xfrm>
            <a:off x="428760" y="4286160"/>
            <a:ext cx="6143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зовите композитор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и его произведени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>
            <a:hlinkClick r:id="rId1" action="ppaction://hlinksldjump"/>
          </p:cNvPr>
          <p:cNvSpPr/>
          <p:nvPr/>
        </p:nvSpPr>
        <p:spPr>
          <a:xfrm>
            <a:off x="2305080" y="26028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0" y="26028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0" y="119700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Слава героям!!!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0" y="213192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0" y="306864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Их именами…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0" y="400536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Не зараст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народная троп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34920" y="5000760"/>
            <a:ext cx="2160720" cy="8636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Музы в шинеля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85840" y="42876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Этих дней не смолкнет сла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7956720" y="134136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AutoShape 12">
            <a:hlinkClick r:id="rId2" action="ppaction://hlinksldjump"/>
          </p:cNvPr>
          <p:cNvSpPr/>
          <p:nvPr/>
        </p:nvSpPr>
        <p:spPr>
          <a:xfrm>
            <a:off x="3672000" y="26028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AutoShape 13">
            <a:hlinkClick r:id="rId3" action="ppaction://hlinksldjump"/>
          </p:cNvPr>
          <p:cNvSpPr/>
          <p:nvPr/>
        </p:nvSpPr>
        <p:spPr>
          <a:xfrm>
            <a:off x="5040360" y="26028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AutoShape 14">
            <a:hlinkClick r:id="rId4" action="ppaction://hlinksldjump"/>
          </p:cNvPr>
          <p:cNvSpPr/>
          <p:nvPr/>
        </p:nvSpPr>
        <p:spPr>
          <a:xfrm>
            <a:off x="6408720" y="26028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AutoShape 15">
            <a:hlinkClick r:id="rId5" action="ppaction://hlinksldjump"/>
          </p:cNvPr>
          <p:cNvSpPr/>
          <p:nvPr/>
        </p:nvSpPr>
        <p:spPr>
          <a:xfrm>
            <a:off x="7740720" y="26028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AutoShape 16">
            <a:hlinkClick r:id="rId6" action="ppaction://hlinksldjump"/>
          </p:cNvPr>
          <p:cNvSpPr/>
          <p:nvPr/>
        </p:nvSpPr>
        <p:spPr>
          <a:xfrm>
            <a:off x="2320920" y="50007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AutoShape 17">
            <a:hlinkClick r:id="rId7" action="ppaction://hlinksldjump"/>
          </p:cNvPr>
          <p:cNvSpPr/>
          <p:nvPr/>
        </p:nvSpPr>
        <p:spPr>
          <a:xfrm>
            <a:off x="3678120" y="50007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AutoShape 18">
            <a:hlinkClick r:id="rId8" action="ppaction://hlinksldjump"/>
          </p:cNvPr>
          <p:cNvSpPr/>
          <p:nvPr/>
        </p:nvSpPr>
        <p:spPr>
          <a:xfrm>
            <a:off x="5035680" y="50007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AutoShape 19">
            <a:hlinkClick r:id="rId9" action="ppaction://hlinksldjump"/>
          </p:cNvPr>
          <p:cNvSpPr/>
          <p:nvPr/>
        </p:nvSpPr>
        <p:spPr>
          <a:xfrm>
            <a:off x="6392880" y="50007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AutoShape 20">
            <a:hlinkClick r:id="rId10" action="ppaction://hlinksldjump"/>
          </p:cNvPr>
          <p:cNvSpPr/>
          <p:nvPr/>
        </p:nvSpPr>
        <p:spPr>
          <a:xfrm>
            <a:off x="7740720" y="50007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AutoShape 26">
            <a:hlinkClick r:id="rId11" action="ppaction://hlinksldjump"/>
          </p:cNvPr>
          <p:cNvSpPr/>
          <p:nvPr/>
        </p:nvSpPr>
        <p:spPr>
          <a:xfrm>
            <a:off x="2305080" y="4005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AutoShape 27">
            <a:hlinkClick r:id="rId12" action="ppaction://hlinksldjump"/>
          </p:cNvPr>
          <p:cNvSpPr/>
          <p:nvPr/>
        </p:nvSpPr>
        <p:spPr>
          <a:xfrm>
            <a:off x="3672000" y="4005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AutoShape 28">
            <a:hlinkClick r:id="rId13" action="ppaction://hlinksldjump"/>
          </p:cNvPr>
          <p:cNvSpPr/>
          <p:nvPr/>
        </p:nvSpPr>
        <p:spPr>
          <a:xfrm>
            <a:off x="5040360" y="4005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AutoShape 29">
            <a:hlinkClick r:id="rId14" action="ppaction://hlinksldjump"/>
          </p:cNvPr>
          <p:cNvSpPr/>
          <p:nvPr/>
        </p:nvSpPr>
        <p:spPr>
          <a:xfrm>
            <a:off x="6408720" y="4005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AutoShape 30">
            <a:hlinkClick r:id="rId15" action="ppaction://hlinksldjump"/>
          </p:cNvPr>
          <p:cNvSpPr/>
          <p:nvPr/>
        </p:nvSpPr>
        <p:spPr>
          <a:xfrm>
            <a:off x="7740720" y="400536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AutoShape 31">
            <a:hlinkClick r:id="rId16" action="ppaction://hlinksldjump"/>
          </p:cNvPr>
          <p:cNvSpPr/>
          <p:nvPr/>
        </p:nvSpPr>
        <p:spPr>
          <a:xfrm>
            <a:off x="2305080" y="3068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AutoShape 32">
            <a:hlinkClick r:id="rId17" action="ppaction://hlinksldjump"/>
          </p:cNvPr>
          <p:cNvSpPr/>
          <p:nvPr/>
        </p:nvSpPr>
        <p:spPr>
          <a:xfrm>
            <a:off x="3672000" y="3068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AutoShape 33">
            <a:hlinkClick r:id="rId18" action="ppaction://hlinksldjump"/>
          </p:cNvPr>
          <p:cNvSpPr/>
          <p:nvPr/>
        </p:nvSpPr>
        <p:spPr>
          <a:xfrm>
            <a:off x="5040360" y="3068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AutoShape 34">
            <a:hlinkClick r:id="rId19" action="ppaction://hlinksldjump"/>
          </p:cNvPr>
          <p:cNvSpPr/>
          <p:nvPr/>
        </p:nvSpPr>
        <p:spPr>
          <a:xfrm>
            <a:off x="6408720" y="3068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AutoShape 35">
            <a:hlinkClick r:id="rId20" action="ppaction://hlinksldjump"/>
          </p:cNvPr>
          <p:cNvSpPr/>
          <p:nvPr/>
        </p:nvSpPr>
        <p:spPr>
          <a:xfrm>
            <a:off x="7740720" y="306864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AutoShape 36">
            <a:hlinkClick r:id="rId21" action="ppaction://hlinksldjump"/>
          </p:cNvPr>
          <p:cNvSpPr/>
          <p:nvPr/>
        </p:nvSpPr>
        <p:spPr>
          <a:xfrm>
            <a:off x="2305080" y="21319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AutoShape 37">
            <a:hlinkClick r:id="rId22" action="ppaction://hlinksldjump"/>
          </p:cNvPr>
          <p:cNvSpPr/>
          <p:nvPr/>
        </p:nvSpPr>
        <p:spPr>
          <a:xfrm>
            <a:off x="3672000" y="21319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AutoShape 38">
            <a:hlinkClick r:id="rId23" action="ppaction://hlinksldjump"/>
          </p:cNvPr>
          <p:cNvSpPr/>
          <p:nvPr/>
        </p:nvSpPr>
        <p:spPr>
          <a:xfrm>
            <a:off x="5040360" y="21319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AutoShape 39">
            <a:hlinkClick r:id="rId24" action="ppaction://hlinksldjump"/>
          </p:cNvPr>
          <p:cNvSpPr/>
          <p:nvPr/>
        </p:nvSpPr>
        <p:spPr>
          <a:xfrm>
            <a:off x="6408720" y="21319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AutoShape 40">
            <a:hlinkClick r:id="rId25" action="ppaction://hlinksldjump"/>
          </p:cNvPr>
          <p:cNvSpPr/>
          <p:nvPr/>
        </p:nvSpPr>
        <p:spPr>
          <a:xfrm>
            <a:off x="7740720" y="2131920"/>
            <a:ext cx="1224000" cy="86544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AutoShape 41">
            <a:hlinkClick r:id="rId26" action="ppaction://hlinksldjump"/>
          </p:cNvPr>
          <p:cNvSpPr/>
          <p:nvPr/>
        </p:nvSpPr>
        <p:spPr>
          <a:xfrm>
            <a:off x="7740720" y="1197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AutoShape 42">
            <a:hlinkClick r:id="rId27" action="ppaction://hlinksldjump"/>
          </p:cNvPr>
          <p:cNvSpPr/>
          <p:nvPr/>
        </p:nvSpPr>
        <p:spPr>
          <a:xfrm>
            <a:off x="6408720" y="1197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43">
            <a:hlinkClick r:id="rId28" action="ppaction://hlinksldjump"/>
          </p:cNvPr>
          <p:cNvSpPr/>
          <p:nvPr/>
        </p:nvSpPr>
        <p:spPr>
          <a:xfrm>
            <a:off x="5040360" y="1197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AutoShape 44">
            <a:hlinkClick r:id="rId29" action="ppaction://hlinksldjump"/>
          </p:cNvPr>
          <p:cNvSpPr/>
          <p:nvPr/>
        </p:nvSpPr>
        <p:spPr>
          <a:xfrm>
            <a:off x="3672000" y="1197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45">
            <a:hlinkClick r:id="rId30" action="ppaction://hlinksldjump"/>
          </p:cNvPr>
          <p:cNvSpPr/>
          <p:nvPr/>
        </p:nvSpPr>
        <p:spPr>
          <a:xfrm>
            <a:off x="2305080" y="1197000"/>
            <a:ext cx="1224000" cy="865080"/>
          </a:xfrm>
          <a:prstGeom prst="bevel">
            <a:avLst>
              <a:gd name="adj" fmla="val 12500"/>
            </a:avLst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46"/>
          <p:cNvSpPr/>
          <p:nvPr/>
        </p:nvSpPr>
        <p:spPr>
          <a:xfrm>
            <a:off x="142920" y="235728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99"/>
                </a:solidFill>
                <a:latin typeface="Arial"/>
              </a:rPr>
              <a:t>Полководц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Пятно 1 41">
            <a:hlinkClick r:id="rId31" action="ppaction://hlinksldjump"/>
          </p:cNvPr>
          <p:cNvSpPr/>
          <p:nvPr/>
        </p:nvSpPr>
        <p:spPr>
          <a:xfrm>
            <a:off x="1714680" y="6143760"/>
            <a:ext cx="1500120" cy="428400"/>
          </a:xfrm>
          <a:prstGeom prst="irregularSeal1">
            <a:avLst/>
          </a:prstGeom>
          <a:solidFill>
            <a:srgbClr val="ea7d72"/>
          </a:solidFill>
          <a:ln w="25560">
            <a:solidFill>
              <a:srgbClr val="433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Пятно 1 42">
            <a:hlinkClick r:id="rId32" action="ppaction://hlinksldjump"/>
          </p:cNvPr>
          <p:cNvSpPr/>
          <p:nvPr/>
        </p:nvSpPr>
        <p:spPr>
          <a:xfrm>
            <a:off x="4071960" y="6143760"/>
            <a:ext cx="1214280" cy="428400"/>
          </a:xfrm>
          <a:prstGeom prst="irregularSeal1">
            <a:avLst/>
          </a:prstGeom>
          <a:solidFill>
            <a:srgbClr val="92d050"/>
          </a:solidFill>
          <a:ln w="25560">
            <a:solidFill>
              <a:srgbClr val="433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Пятно 2 43"/>
          <p:cNvSpPr/>
          <p:nvPr/>
        </p:nvSpPr>
        <p:spPr>
          <a:xfrm>
            <a:off x="6000840" y="6143760"/>
            <a:ext cx="1357200" cy="428400"/>
          </a:xfrm>
          <a:prstGeom prst="irregularSeal2">
            <a:avLst/>
          </a:prstGeom>
          <a:solidFill>
            <a:srgbClr val="ffccff"/>
          </a:solidFill>
          <a:ln w="25560">
            <a:solidFill>
              <a:srgbClr val="433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6" descr="watermark_300x"/>
          <p:cNvPicPr/>
          <p:nvPr/>
        </p:nvPicPr>
        <p:blipFill>
          <a:blip r:embed="rId1"/>
          <a:stretch/>
        </p:blipFill>
        <p:spPr>
          <a:xfrm>
            <a:off x="6500880" y="5286240"/>
            <a:ext cx="1404720" cy="13208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5"/>
          <p:cNvSpPr/>
          <p:nvPr/>
        </p:nvSpPr>
        <p:spPr>
          <a:xfrm>
            <a:off x="285840" y="5286240"/>
            <a:ext cx="6000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Поэма «Зоя», посвященная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Зое Космодемьянской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" name="Picture 9" descr=""/>
          <p:cNvPicPr/>
          <p:nvPr/>
        </p:nvPicPr>
        <p:blipFill>
          <a:blip r:embed="rId2"/>
          <a:stretch/>
        </p:blipFill>
        <p:spPr>
          <a:xfrm>
            <a:off x="428760" y="357120"/>
            <a:ext cx="4572000" cy="3619440"/>
          </a:xfrm>
          <a:prstGeom prst="rect">
            <a:avLst/>
          </a:prstGeom>
          <a:ln w="0">
            <a:noFill/>
          </a:ln>
        </p:spPr>
      </p:pic>
      <p:sp>
        <p:nvSpPr>
          <p:cNvPr id="285" name="TextBox 9"/>
          <p:cNvSpPr/>
          <p:nvPr/>
        </p:nvSpPr>
        <p:spPr>
          <a:xfrm>
            <a:off x="5214960" y="476280"/>
            <a:ext cx="3643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</a:rPr>
              <a:t>В 1942 г. поэтэсса Маргарита Алигер написала поэму, посвященную  девушке , зверски замученной фашистами, памятник которой вы види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Прямоугольник 6"/>
          <p:cNvSpPr/>
          <p:nvPr/>
        </p:nvSpPr>
        <p:spPr>
          <a:xfrm>
            <a:off x="500040" y="4071960"/>
            <a:ext cx="7929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зовите поэму и девушку, которой было присвоено звание  Героя Советского Союз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3"/>
          <p:cNvSpPr/>
          <p:nvPr/>
        </p:nvSpPr>
        <p:spPr>
          <a:xfrm>
            <a:off x="428760" y="55008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3366"/>
                </a:solidFill>
                <a:latin typeface="Times New Roman"/>
              </a:rPr>
              <a:t>Александр Данилович Камен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9" name="Picture 6" descr="watermark_300x"/>
          <p:cNvPicPr/>
          <p:nvPr/>
        </p:nvPicPr>
        <p:blipFill>
          <a:blip r:embed="rId1"/>
          <a:stretch/>
        </p:blipFill>
        <p:spPr>
          <a:xfrm>
            <a:off x="6286680" y="5072040"/>
            <a:ext cx="1366560" cy="146052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оугольник 6"/>
          <p:cNvSpPr/>
          <p:nvPr/>
        </p:nvSpPr>
        <p:spPr>
          <a:xfrm>
            <a:off x="4500720" y="285840"/>
            <a:ext cx="4286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Этот композитор почти всю блокаду прожил в бомбоубежищ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театра им. Пушки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Был единственным концертирующим пианистом, который за 872 дн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дал в осажденном городе боле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500 концертов под обстрелами и бомбёжками, в промёрзших зала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и полуразрушенных помещен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Он играл на призывных пункта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и вокзалах, на лучших концертных сценах и в прифронтовых агитбригад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Прямоугольник 7"/>
          <p:cNvSpPr/>
          <p:nvPr/>
        </p:nvSpPr>
        <p:spPr>
          <a:xfrm>
            <a:off x="441360" y="4643280"/>
            <a:ext cx="543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Назовите пианиста-виртуоз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2"/>
          <a:stretch/>
        </p:blipFill>
        <p:spPr>
          <a:xfrm>
            <a:off x="285840" y="571680"/>
            <a:ext cx="3951360" cy="29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8" dur="indefinite" restart="never" nodeType="tmRoot">
          <p:childTnLst>
            <p:seq>
              <p:cTn id="599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285840" y="4857840"/>
            <a:ext cx="660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Композитор Д. Шостакович,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артисты Кировского театр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О. Иордан, С. Корень, В. Легко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В. Касторск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Picture 6" descr="watermark_300x"/>
          <p:cNvPicPr/>
          <p:nvPr/>
        </p:nvPicPr>
        <p:blipFill>
          <a:blip r:embed="rId1"/>
          <a:stretch/>
        </p:blipFill>
        <p:spPr>
          <a:xfrm>
            <a:off x="6715080" y="4786200"/>
            <a:ext cx="1152720" cy="12319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4"/>
          <p:cNvSpPr/>
          <p:nvPr/>
        </p:nvSpPr>
        <p:spPr>
          <a:xfrm>
            <a:off x="428760" y="407196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то принял участие в этом концер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Picture 10" descr=""/>
          <p:cNvPicPr/>
          <p:nvPr/>
        </p:nvPicPr>
        <p:blipFill>
          <a:blip r:embed="rId2"/>
          <a:stretch/>
        </p:blipFill>
        <p:spPr>
          <a:xfrm>
            <a:off x="571680" y="1428840"/>
            <a:ext cx="3638520" cy="2428920"/>
          </a:xfrm>
          <a:prstGeom prst="rect">
            <a:avLst/>
          </a:prstGeom>
          <a:ln w="0">
            <a:noFill/>
          </a:ln>
        </p:spPr>
      </p:pic>
      <p:sp>
        <p:nvSpPr>
          <p:cNvPr id="298" name="Прямоугольник 10"/>
          <p:cNvSpPr/>
          <p:nvPr/>
        </p:nvSpPr>
        <p:spPr>
          <a:xfrm>
            <a:off x="214200" y="28584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14 сентября 1941г. в Большом зале филармонии состоялся первый в блокадные дни концер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В нем приняли участие «звезды» - писатели, актеры, музыкан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Picture 11" descr=""/>
          <p:cNvPicPr/>
          <p:nvPr/>
        </p:nvPicPr>
        <p:blipFill>
          <a:blip r:embed="rId3"/>
          <a:stretch/>
        </p:blipFill>
        <p:spPr>
          <a:xfrm>
            <a:off x="4714920" y="1428840"/>
            <a:ext cx="350028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7" dur="indefinite" restart="never" nodeType="tmRoot">
          <p:childTnLst>
            <p:seq>
              <p:cTn id="608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3"/>
          <p:cNvSpPr/>
          <p:nvPr/>
        </p:nvSpPr>
        <p:spPr>
          <a:xfrm>
            <a:off x="357120" y="5500800"/>
            <a:ext cx="635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  <a:ea typeface="Tahoma"/>
              </a:rPr>
              <a:t>«Ленинградская» (7) симфония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Picture 6" descr="watermark_300x"/>
          <p:cNvPicPr/>
          <p:nvPr/>
        </p:nvPicPr>
        <p:blipFill>
          <a:blip r:embed="rId1"/>
          <a:stretch/>
        </p:blipFill>
        <p:spPr>
          <a:xfrm>
            <a:off x="7643880" y="4664160"/>
            <a:ext cx="1214280" cy="1297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"/>
          <p:cNvPicPr/>
          <p:nvPr/>
        </p:nvPicPr>
        <p:blipFill>
          <a:blip r:embed="rId2"/>
          <a:stretch/>
        </p:blipFill>
        <p:spPr>
          <a:xfrm>
            <a:off x="857160" y="357120"/>
            <a:ext cx="3032280" cy="39258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7"/>
          <p:cNvSpPr/>
          <p:nvPr/>
        </p:nvSpPr>
        <p:spPr>
          <a:xfrm>
            <a:off x="4572000" y="620640"/>
            <a:ext cx="4248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Дмитрий Дмитриевич Шостакович, написал произведение, посвященное блокадному Ленинграду, которое и сегодня никого не оставляет равнодушны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В осажденном городе оно было исполнено 9 августа 1942г. оркестром Ленинградского радиокомите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Прямоугольник 6"/>
          <p:cNvSpPr/>
          <p:nvPr/>
        </p:nvSpPr>
        <p:spPr>
          <a:xfrm>
            <a:off x="415800" y="4572000"/>
            <a:ext cx="68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зовите музыкальное произве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3" dur="indefinite" restart="never" nodeType="tmRoot">
          <p:childTnLst>
            <p:seq>
              <p:cTn id="634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1"/>
          <p:cNvSpPr/>
          <p:nvPr/>
        </p:nvSpPr>
        <p:spPr>
          <a:xfrm>
            <a:off x="463680" y="928800"/>
            <a:ext cx="8216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Пусть никогда не будет войн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И в небе солнце светит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Пусть будет добрым каждый ден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Для всех людей на свет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Л.Сен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Управляющая кнопка: назад 2"/>
          <p:cNvSpPr/>
          <p:nvPr/>
        </p:nvSpPr>
        <p:spPr>
          <a:xfrm>
            <a:off x="8358120" y="6286680"/>
            <a:ext cx="642960" cy="357120"/>
          </a:xfrm>
          <a:custGeom>
            <a:avLst/>
            <a:gdLst>
              <a:gd name="textAreaLeft" fmla="*/ 23040 w 642960"/>
              <a:gd name="textAreaRight" fmla="*/ 619920 w 6429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8871" h="21600">
                <a:moveTo>
                  <a:pt x="0" y="0"/>
                </a:moveTo>
                <a:lnTo>
                  <a:pt x="38871" y="0"/>
                </a:lnTo>
                <a:lnTo>
                  <a:pt x="38871" y="21600"/>
                </a:lnTo>
                <a:lnTo>
                  <a:pt x="0" y="21600"/>
                </a:lnTo>
                <a:close/>
              </a:path>
              <a:path fill="lightenLess" w="38871" h="21600">
                <a:moveTo>
                  <a:pt x="0" y="0"/>
                </a:moveTo>
                <a:lnTo>
                  <a:pt x="38871" y="0"/>
                </a:lnTo>
                <a:lnTo>
                  <a:pt x="37471" y="1400"/>
                </a:lnTo>
                <a:lnTo>
                  <a:pt x="1400" y="1400"/>
                </a:lnTo>
                <a:close/>
              </a:path>
              <a:path fill="darken" w="38871" h="21600">
                <a:moveTo>
                  <a:pt x="38871" y="0"/>
                </a:moveTo>
                <a:lnTo>
                  <a:pt x="38871" y="21600"/>
                </a:lnTo>
                <a:lnTo>
                  <a:pt x="37471" y="20200"/>
                </a:lnTo>
                <a:lnTo>
                  <a:pt x="37471" y="1400"/>
                </a:lnTo>
                <a:close/>
              </a:path>
              <a:path fill="darkenLess" w="38871" h="21600">
                <a:moveTo>
                  <a:pt x="38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1" y="20200"/>
                </a:lnTo>
                <a:close/>
              </a:path>
              <a:path fill="lighten" w="38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1" h="21600">
                <a:moveTo>
                  <a:pt x="12429" y="10800"/>
                </a:moveTo>
                <a:lnTo>
                  <a:pt x="26442" y="3794"/>
                </a:lnTo>
                <a:lnTo>
                  <a:pt x="26442" y="17806"/>
                </a:lnTo>
                <a:close/>
              </a:path>
            </a:pathLst>
          </a:custGeom>
          <a:solidFill>
            <a:srgbClr val="5e5884"/>
          </a:solidFill>
          <a:ln w="25560">
            <a:solidFill>
              <a:srgbClr val="433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826920" y="1268280"/>
            <a:ext cx="792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5796000" y="4437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watermark_300x"/>
          <p:cNvPicPr/>
          <p:nvPr/>
        </p:nvPicPr>
        <p:blipFill>
          <a:blip r:embed="rId2"/>
          <a:stretch/>
        </p:blipFill>
        <p:spPr>
          <a:xfrm>
            <a:off x="7634160" y="4786200"/>
            <a:ext cx="1233720" cy="1317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2643120" y="478620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66"/>
                </a:solidFill>
                <a:latin typeface="Times New Roman"/>
                <a:ea typeface="Times New Roman"/>
              </a:rPr>
              <a:t>Битва за Москв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10" descr="&amp;Pcy;&amp;Lcy;&amp;Acy;&amp;Kcy;&amp;Acy;&amp;Tcy;&amp;Ycy; &amp;Vcy;&amp;IEcy;&amp;Lcy;&amp;Icy;&amp;Kcy;&amp;Ocy;&amp;Jcy; &amp;Ocy;&amp;Tcy;&amp;IEcy;&amp;CHcy;&amp;IEcy;&amp;Scy;&amp;Tcy;&amp;Vcy;&amp;IEcy;&amp;Ncy;&amp;Ncy;&amp;Ocy;&amp;Jcy; &amp;Vcy;&amp;Ocy;&amp;Jcy;&amp;Ncy;&amp;Ycy; . &amp;Ocy;&amp;bcy;&amp;scy;&amp;ucy;&amp;zhcy;&amp;dcy;&amp;iecy;&amp;ncy;&amp;icy;&amp;iecy; &amp;ncy;&amp;acy; LiveInternet - &amp;Rcy;&amp;ocy;&amp;scy;&amp;scy;&amp;icy;&amp;jcy;&amp;scy;&amp;kcy;&amp;icy;&amp;jcy; &amp;Scy;&amp;iecy;&amp;rcy;&amp;vcy;&amp;icy;&amp;scy; &amp;Ocy;&amp;ncy;&amp;lcy;&amp;acy;&amp;jcy;&amp;ncy;-&amp;Dcy;&amp;ncy;&amp;iecy;&amp;vcy;&amp;ncy;&amp;icy;&amp;kcy;&amp;ocy;&amp;vcy;"/>
          <p:cNvPicPr/>
          <p:nvPr/>
        </p:nvPicPr>
        <p:blipFill>
          <a:blip r:embed="rId3"/>
          <a:stretch/>
        </p:blipFill>
        <p:spPr>
          <a:xfrm>
            <a:off x="214200" y="3357720"/>
            <a:ext cx="2336760" cy="3295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1"/>
          <p:cNvSpPr/>
          <p:nvPr/>
        </p:nvSpPr>
        <p:spPr>
          <a:xfrm>
            <a:off x="500040" y="25920"/>
            <a:ext cx="835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азбит миф о непобедимости немецкой армии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 декабря 1941 г. можно считать поворотным  моментом, причем одним из самых роковых моментов в краткой истории Третьего рейха. Сила и могущество Гитлера достигли своего апогея, начиная с этого момента они пошли на убыль...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 Гальдер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начальник Генерального штаба сухопутных войск Герма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2428920" y="3143160"/>
            <a:ext cx="671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 каком сражении идет реч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ое название носила немецкая операция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Box 9"/>
          <p:cNvSpPr/>
          <p:nvPr/>
        </p:nvSpPr>
        <p:spPr>
          <a:xfrm>
            <a:off x="2928960" y="557208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66"/>
                </a:solidFill>
                <a:latin typeface="Times New Roman"/>
                <a:ea typeface="Times New Roman"/>
              </a:rPr>
              <a:t>«Тайфун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4429080" y="41432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66"/>
                </a:solidFill>
                <a:latin typeface="Times New Roman"/>
              </a:rPr>
              <a:t>Сталинградская би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8">
            <a:hlinkClick r:id="rId1" action="ppaction://hlinksldjump"/>
          </p:cNvPr>
          <p:cNvSpPr/>
          <p:nvPr/>
        </p:nvSpPr>
        <p:spPr>
          <a:xfrm>
            <a:off x="8317080" y="6308640"/>
            <a:ext cx="647640" cy="549360"/>
          </a:xfrm>
          <a:custGeom>
            <a:avLst/>
            <a:gdLst>
              <a:gd name="textAreaLeft" fmla="*/ 35280 w 647640"/>
              <a:gd name="textAreaRight" fmla="*/ 612360 w 647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5462" h="21600">
                <a:moveTo>
                  <a:pt x="0" y="0"/>
                </a:moveTo>
                <a:lnTo>
                  <a:pt x="25462" y="0"/>
                </a:lnTo>
                <a:lnTo>
                  <a:pt x="25462" y="21600"/>
                </a:lnTo>
                <a:lnTo>
                  <a:pt x="0" y="21600"/>
                </a:lnTo>
                <a:close/>
              </a:path>
              <a:path fill="lightenLess" w="25462" h="21600">
                <a:moveTo>
                  <a:pt x="0" y="0"/>
                </a:moveTo>
                <a:lnTo>
                  <a:pt x="25462" y="0"/>
                </a:lnTo>
                <a:lnTo>
                  <a:pt x="24062" y="1400"/>
                </a:lnTo>
                <a:lnTo>
                  <a:pt x="1400" y="1400"/>
                </a:lnTo>
                <a:close/>
              </a:path>
              <a:path fill="darken" w="25462" h="21600">
                <a:moveTo>
                  <a:pt x="25462" y="0"/>
                </a:moveTo>
                <a:lnTo>
                  <a:pt x="25462" y="21600"/>
                </a:lnTo>
                <a:lnTo>
                  <a:pt x="24062" y="20200"/>
                </a:lnTo>
                <a:lnTo>
                  <a:pt x="24062" y="1400"/>
                </a:lnTo>
                <a:close/>
              </a:path>
              <a:path fill="darkenLess" w="25462" h="21600">
                <a:moveTo>
                  <a:pt x="25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2" y="20200"/>
                </a:lnTo>
                <a:close/>
              </a:path>
              <a:path fill="lighten" w="25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2" h="21600">
                <a:moveTo>
                  <a:pt x="5724" y="10800"/>
                </a:moveTo>
                <a:lnTo>
                  <a:pt x="19737" y="3794"/>
                </a:lnTo>
                <a:lnTo>
                  <a:pt x="1973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10" descr="watermark_300x"/>
          <p:cNvPicPr/>
          <p:nvPr/>
        </p:nvPicPr>
        <p:blipFill>
          <a:blip r:embed="rId2"/>
          <a:stretch/>
        </p:blipFill>
        <p:spPr>
          <a:xfrm>
            <a:off x="6643800" y="5143680"/>
            <a:ext cx="1368360" cy="14396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142920" y="0"/>
            <a:ext cx="8786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аршал В. И. Чуйков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 своих воспоминаниях дал следующее описание событий этой битвы: «Несмотря на громадные потери, захватчики лезли напролом. Колонны пехоты на машинах и танках врывались в город. По-видимому, гитлеровцы считали, что участь его решена, и каждый из них стремился как можно скорее достичь центра Волги, центра города и там поживиться трофеями... Наши бойцы... выползали из-под немецких танков, чаще всего раненые, на следующий рубеж, где их принимали, объединяли в подразделения, снабжали, главным образом боеприпасами, и снова бросали в бой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214880" y="335772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зовите сра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4" descr="&amp;Zcy;&amp;acy;&amp;pcy;&amp;icy;&amp;scy;&amp;kcy;&amp;icy; &amp;Tcy;&amp;ucy;&amp;rcy;&amp;icy;&amp;scy;&amp;tcy;&amp;acy; &quot; &amp;Acy;&amp;rcy;&amp;khcy;&amp;icy;&amp;vcy; &quot; &amp;Pcy;&amp;rcy;&amp;ocy;&amp;iecy;&amp;zcy;&amp;dcy;&amp;ocy;&amp;mcy; &amp;vcy; &amp;Vcy;&amp;ocy;&amp;lcy;&amp;gcy;&amp;ocy;&amp;gcy;&amp;rcy;&amp;acy;&amp;dcy;&amp;iecy;"/>
          <p:cNvPicPr/>
          <p:nvPr/>
        </p:nvPicPr>
        <p:blipFill>
          <a:blip r:embed="rId3"/>
          <a:stretch/>
        </p:blipFill>
        <p:spPr>
          <a:xfrm>
            <a:off x="214200" y="3071880"/>
            <a:ext cx="3953160" cy="296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4500720" y="31431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33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watermark_300x"/>
          <p:cNvPicPr/>
          <p:nvPr/>
        </p:nvPicPr>
        <p:blipFill>
          <a:blip r:embed="rId2"/>
          <a:stretch/>
        </p:blipFill>
        <p:spPr>
          <a:xfrm>
            <a:off x="6215040" y="5286240"/>
            <a:ext cx="1366920" cy="13176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5143680" y="3429000"/>
            <a:ext cx="3571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Танковое сражение под Прохоровко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3366"/>
                </a:solidFill>
                <a:latin typeface="Times New Roman"/>
              </a:rPr>
              <a:t>Курская би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Прямоугольник 9"/>
          <p:cNvSpPr/>
          <p:nvPr/>
        </p:nvSpPr>
        <p:spPr>
          <a:xfrm>
            <a:off x="214200" y="21420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Об этом сражении вспоминал участник боя, впоследствии Герой Советского Союз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Григорий Пэнэжко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: «… В памяти остались тяжелые картины… Стоял такой грохот, что перепонки давило, кровь текла из ушей. Сплошной рев моторов, лязганье металла, грохот, взрывы снарядов, дикий скрежет разрываемого железа… От выстрелов в упор сворачивало башни, скручивало орудия, лопалась броня, взрывались танки».  Этот бой стал кульминацией большого сраж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00040" y="242892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 каком сражении идет речь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Частью какой битвы оно явилос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0" descr="&amp;Dcy;&amp;iecy;&amp;ncy;&amp;softcy; &amp;pcy;&amp;ocy;&amp;bcy;&amp;iecy;&amp;dcy;&amp;ycy; &amp;vcy; &amp;Kcy;&amp;ucy;&amp;rcy;&amp;scy;&amp;kcy;&amp;ocy;&amp;jcy; &amp;bcy;&amp;icy;&amp;tcy;&amp;vcy;&amp;iecy; &amp;Scy;&amp;vcy;&amp;iecy;&amp;zhcy;&amp;icy;&amp;iecy; &amp;kcy;&amp;ocy;&amp;lcy;&amp;kcy;&amp;ocy;&amp;scy;&amp;tcy;&amp;icy;"/>
          <p:cNvPicPr/>
          <p:nvPr/>
        </p:nvPicPr>
        <p:blipFill>
          <a:blip r:embed="rId3"/>
          <a:stretch/>
        </p:blipFill>
        <p:spPr>
          <a:xfrm>
            <a:off x="214200" y="3500280"/>
            <a:ext cx="4500720" cy="311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928800" y="214200"/>
            <a:ext cx="7786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Правительство планировало вывезти из города до 390 000 ребя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Большинство детей эвакуировали на юг обла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Но именно туда начали своё наступление фашис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16"/>
                </a:solidFill>
                <a:latin typeface="Times New Roman"/>
              </a:rPr>
              <a:t>По этой причине, около 170 000 девочек и мальчиков пришлось отправить обратно в гор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5357880" y="32860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66"/>
                </a:solidFill>
                <a:latin typeface="Times New Roman"/>
              </a:rPr>
              <a:t>Ленингр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6" descr="watermark_300x"/>
          <p:cNvPicPr/>
          <p:nvPr/>
        </p:nvPicPr>
        <p:blipFill>
          <a:blip r:embed="rId2"/>
          <a:stretch/>
        </p:blipFill>
        <p:spPr>
          <a:xfrm>
            <a:off x="6357960" y="5143680"/>
            <a:ext cx="1366920" cy="13888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7"/>
          <p:cNvSpPr/>
          <p:nvPr/>
        </p:nvSpPr>
        <p:spPr>
          <a:xfrm>
            <a:off x="642960" y="185724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 каком городе идет речь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зовите дату первого этапа эваку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5643720" y="400068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66"/>
                </a:solidFill>
                <a:latin typeface="Times New Roman"/>
              </a:rPr>
              <a:t>29 июня 1941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216000" y="3071880"/>
            <a:ext cx="546408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6" descr="watermark_300x"/>
          <p:cNvPicPr/>
          <p:nvPr/>
        </p:nvPicPr>
        <p:blipFill>
          <a:blip r:embed="rId2"/>
          <a:stretch/>
        </p:blipFill>
        <p:spPr>
          <a:xfrm>
            <a:off x="5857920" y="5000760"/>
            <a:ext cx="1366920" cy="13888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6"/>
          <p:cNvSpPr/>
          <p:nvPr/>
        </p:nvSpPr>
        <p:spPr>
          <a:xfrm>
            <a:off x="357120" y="285840"/>
            <a:ext cx="8572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зовите  3 дат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- дата начала операции «Искра»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 – дата встречи советских подразделений при освобождении Шлиссельбурга и выхода на побережье Ладожского озера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3 – дата полного снятия блокады Ленингра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5000760" y="2643120"/>
            <a:ext cx="414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12 января 1943г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5500800" y="3286080"/>
            <a:ext cx="314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18 января 1943г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3"/>
          <a:stretch/>
        </p:blipFill>
        <p:spPr>
          <a:xfrm>
            <a:off x="276120" y="2857680"/>
            <a:ext cx="4724640" cy="30002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1"/>
          <p:cNvSpPr/>
          <p:nvPr/>
        </p:nvSpPr>
        <p:spPr>
          <a:xfrm>
            <a:off x="5357880" y="4000680"/>
            <a:ext cx="350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93366"/>
                </a:solidFill>
                <a:latin typeface="Times New Roman"/>
              </a:rPr>
              <a:t>27 января 1944г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357120" y="557208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66"/>
                </a:solidFill>
                <a:latin typeface="Times New Roman"/>
              </a:rPr>
              <a:t>Пионеры-Геро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5">
            <a:hlinkClick r:id="rId1" action="ppaction://hlinksldjump"/>
          </p:cNvPr>
          <p:cNvSpPr/>
          <p:nvPr/>
        </p:nvSpPr>
        <p:spPr>
          <a:xfrm>
            <a:off x="8244000" y="6165720"/>
            <a:ext cx="720720" cy="538200"/>
          </a:xfrm>
          <a:custGeom>
            <a:avLst/>
            <a:gdLst>
              <a:gd name="textAreaLeft" fmla="*/ 34560 w 720720"/>
              <a:gd name="textAreaRight" fmla="*/ 686160 w 7207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8920" h="21600">
                <a:moveTo>
                  <a:pt x="0" y="0"/>
                </a:moveTo>
                <a:lnTo>
                  <a:pt x="28920" y="0"/>
                </a:lnTo>
                <a:lnTo>
                  <a:pt x="28920" y="21600"/>
                </a:lnTo>
                <a:lnTo>
                  <a:pt x="0" y="21600"/>
                </a:lnTo>
                <a:close/>
              </a:path>
              <a:path fill="lightenLess" w="28920" h="21600">
                <a:moveTo>
                  <a:pt x="0" y="0"/>
                </a:moveTo>
                <a:lnTo>
                  <a:pt x="28920" y="0"/>
                </a:lnTo>
                <a:lnTo>
                  <a:pt x="27520" y="1400"/>
                </a:lnTo>
                <a:lnTo>
                  <a:pt x="1400" y="1400"/>
                </a:lnTo>
                <a:close/>
              </a:path>
              <a:path fill="darken" w="28920" h="21600">
                <a:moveTo>
                  <a:pt x="28920" y="0"/>
                </a:moveTo>
                <a:lnTo>
                  <a:pt x="28920" y="21600"/>
                </a:lnTo>
                <a:lnTo>
                  <a:pt x="27520" y="20200"/>
                </a:lnTo>
                <a:lnTo>
                  <a:pt x="27520" y="1400"/>
                </a:lnTo>
                <a:close/>
              </a:path>
              <a:path fill="darkenLess" w="28920" h="21600">
                <a:moveTo>
                  <a:pt x="28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20" y="20200"/>
                </a:lnTo>
                <a:close/>
              </a:path>
              <a:path fill="lighten" w="28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20" h="21600">
                <a:moveTo>
                  <a:pt x="7454" y="10800"/>
                </a:moveTo>
                <a:lnTo>
                  <a:pt x="21467" y="3794"/>
                </a:lnTo>
                <a:lnTo>
                  <a:pt x="21467" y="17806"/>
                </a:lnTo>
                <a:close/>
              </a:path>
            </a:pathLst>
          </a:custGeom>
          <a:solidFill>
            <a:srgbClr val="5e58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6" descr="watermark_300x"/>
          <p:cNvPicPr/>
          <p:nvPr/>
        </p:nvPicPr>
        <p:blipFill>
          <a:blip r:embed="rId2"/>
          <a:stretch/>
        </p:blipFill>
        <p:spPr>
          <a:xfrm>
            <a:off x="6715080" y="4286160"/>
            <a:ext cx="1366920" cy="14605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3"/>
          <p:cNvSpPr/>
          <p:nvPr/>
        </p:nvSpPr>
        <p:spPr>
          <a:xfrm>
            <a:off x="214200" y="4357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называют этих герое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16" descr=""/>
          <p:cNvPicPr/>
          <p:nvPr/>
        </p:nvPicPr>
        <p:blipFill>
          <a:blip r:embed="rId3"/>
          <a:stretch/>
        </p:blipFill>
        <p:spPr>
          <a:xfrm>
            <a:off x="274680" y="488880"/>
            <a:ext cx="2162160" cy="3083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"/>
          <p:cNvPicPr/>
          <p:nvPr/>
        </p:nvPicPr>
        <p:blipFill>
          <a:blip r:embed="rId4"/>
          <a:stretch/>
        </p:blipFill>
        <p:spPr>
          <a:xfrm>
            <a:off x="6715080" y="500040"/>
            <a:ext cx="2193840" cy="3071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5"/>
          <a:stretch/>
        </p:blipFill>
        <p:spPr>
          <a:xfrm>
            <a:off x="2786040" y="662040"/>
            <a:ext cx="3500640" cy="26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1:05:39Z</dcterms:created>
  <dc:creator>USER</dc:creator>
  <dc:description/>
  <dc:language>en-US</dc:language>
  <cp:lastModifiedBy>admin</cp:lastModifiedBy>
  <dcterms:modified xsi:type="dcterms:W3CDTF">2021-02-15T15:51:20Z</dcterms:modified>
  <cp:revision>280</cp:revision>
  <dc:subject/>
  <dc:title>Слайд 1</dc:title>
</cp:coreProperties>
</file>